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01A-974B-4573-843E-58B23B89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A23-4AED-482A-8FB9-DF9F3160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9364B-2D7E-427E-AD2D-50470EF1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CA8A7-8F2C-45F3-B705-63538EC5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F30EE-975C-4961-869F-85A13B34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DCDAC-83FF-4AA0-B06B-B6743030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759B5-0487-4856-A07E-385DF59D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0E893-A287-4503-A0CE-EE436221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E1AA5-BD95-4206-907E-3188ABA0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F786A-B75C-4D9B-8918-33FBEC19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7A3BE-DDBF-4F95-8E9D-24795533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4E2F5-23DF-4C5B-B979-2E368EF8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AA5-398C-49E1-B446-11E04F29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13506-B1EA-4054-A185-169C3A7F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3B0D6-8CFF-498D-AC3E-A020DA56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B809D-8BB9-4550-931A-199FFF7C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7D5AE-BE62-4529-A667-44681EE2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40C7E-7D59-47D0-83EC-3A3777D8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50515-D3B2-4B0F-8A6B-C16FA451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ED3AC-722C-4B8F-8CA8-F40B980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24BF5-C907-4F7D-AA21-E169BB1D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49B72-101D-4DDC-907A-648D3362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479FE-7DF7-47AF-8FE4-E244ADAB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A5B-C9A4-4278-AEDC-DF0772D0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C7788-1550-4821-A43B-CDB6B2DF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445C4-B622-4BC3-93E3-FE299035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66E68-045B-46A3-9281-848D23AB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C2A41-99EB-4CA8-81E7-47855417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5BD65-C2CA-4676-A55A-A4760A11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EEBC2-56F6-43EA-B63F-BFA8A924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28423-7698-44B6-A574-B1AB20BE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6A555-7DB4-4411-A197-DF72BAC5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72F2A-9624-4CEF-9822-D4C890FB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2E9F1-62B1-4194-A447-1411BEA8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4E09-0E89-4A00-AC96-F004E02F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8A926-C918-4C4C-92D2-ADB84754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BD825-AE50-4A8D-B339-83FB479A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7332F-4CC6-4DEC-AB79-155478B5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D368D-D205-4587-B4D3-C4945281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E82C6-73EF-4B12-B37A-1421980E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87439-7854-49BF-9071-806FC107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7875B-8E78-4A48-B25F-00138B8A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B84A5-5635-46DF-BD9F-24296DD1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D8E12-83F6-4B58-8EAA-23AE52CD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D3206-DFDB-4DD4-AC53-D738625E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6050-271C-4680-8120-EA5907D1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98EF6-C7CA-4BA8-A7FC-5E701954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B2EE0-14CA-4D48-BDFF-A630F728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01221-EC4B-4E3D-A2E8-2EF44760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FB040-34B3-4D5A-AC43-B6CE9A35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A1695-EF3C-4B83-AB71-64A5ECAD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7497D-DD61-4756-A7BB-1FC8430F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A8357-BFCB-4064-8720-D38A6EAF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9302E-1BF8-4AAF-8E28-E1DC101C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125B4-C299-4F8F-97CE-E09A3456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77E97-96FA-49BA-B93E-59AD0BFD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354B-0AFB-4E39-B781-F1F10F80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B2FF1-3E16-4512-923D-1EAAE43D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3E45D-6C2E-48EC-96E3-48FFD33B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47443-7ECB-4AD2-A71A-C799841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4E020-D7F3-4A25-8C03-E482121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E4A95-B286-49FD-95DE-47C54D9C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FF349-8F21-4443-9E69-815E5410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F1FEB-29C7-4275-A6F6-1DB83B23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FED84-B92D-43F7-A568-798B7802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73462-7ECE-4766-A566-626BC81E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4C3EA-F9BC-4801-81FA-C4019112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41DF-5C25-4A48-9FF4-DC5E9054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5A9AE-6B17-428F-A1D4-53CAE723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96FBC-DA33-4C58-B5DC-8765C063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B06DA-382C-426F-8CAC-4928355B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2FE93-1D20-4EEE-B208-304773D3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B51DB-12F4-4FCB-978A-C6E92279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04C685-B1EC-46E1-9491-BEC5601A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C2372-E2F4-4537-A39C-4559BE83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D52B2-1211-4378-9655-D61DCB96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3CA90-F87C-4CD3-A680-9A6FBBBD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3B87A-A040-41A0-AE9E-061A7205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BE4F-C149-4994-A959-3E2526E4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5D7EA0-5F92-450C-8DF8-78FBDDCC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E02A8-13E0-449C-9C12-2CC4B03F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0E78E-87D3-4781-A26F-F396E7F3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8376A-FE8B-43AD-942B-ADBA1BC0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843EE-0C12-42DC-BA80-6F3CB217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CA92A9-3EA5-489F-9949-315309E6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876ED-22B6-40B0-BFB6-D938E312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7FF42-0CB2-481D-B96E-1825562C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CD7EB-8C68-4CD3-881A-F54B61BA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F538A-1894-422A-9607-7B5268E9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A1FE-0377-47A0-8613-E6673129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7E712-B5F8-494B-A3AC-5A538CA5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8AD04-37F9-464B-851A-69B483CC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D50DB-5EC9-4773-990A-6B417E1F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5BD41-F793-47F1-B6E6-DBFBF8C5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97AE9-9DB8-4DDD-BC3E-DFAF2032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1047B6-05DA-4E2B-B090-D86A950A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44636-2B5E-44B9-894D-2BC32083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8EF1F-1DC9-4C27-BEA6-70367605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49D60-7825-4BC4-878C-4AC663B2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C3D56-6949-49B4-B761-9792C910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639B-F63E-4DE1-A160-FB2F3C1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7DB235-543E-4BB6-9B06-4C159A7A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6BDBC-8BD0-48D8-9B03-84DB94B2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5B5F0-2312-4773-A0B8-4062268B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1A97B-33AB-4551-A30C-ACAFBAC5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62108-3F03-407E-862B-5A03E83E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37D92-BF6E-4FAC-8AC3-62AE705E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B32757-8059-4103-8324-E1DF9335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A047F-8A7C-4F1F-AE98-DBFEC964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41562-9347-4B3A-891B-9CC41F78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9E882-D4C4-477D-9255-03BA3E4C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FAB-A4D7-476C-9FF1-59AB06B2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7B5C-F6C0-46C2-AD3B-6019B89B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F55B76-F432-423A-8AB8-FEF337A4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3FE49-5AB4-430C-836B-3F8A2AB1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670FA-7C6D-4715-9C76-D623982A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58030-19BE-4A43-97F0-EFC2C20A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3A15FC-A0DE-48E5-A942-D9AD2165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7190B8-008E-47DF-983A-24A7487F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2EEBDA-FD05-4D81-885E-7B086412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57CF8E-6971-486E-A3E9-D70C0E4A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CBE9E3-2B4C-4253-9E44-9B12D040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15B3D1-6B58-49CD-A286-13FB5011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9131-572C-4D0C-9286-42BE6F3F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C32E8-671C-42CD-974D-735DFFC3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4F4D7-3559-40EE-9AE5-0790147C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A3581-1009-4D4F-91B4-6F9A5DF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9CCB3C-2BED-4D36-AF63-8991313F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57B2BC-6CD6-48AA-88C3-76B6A669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007C98-8418-4227-B112-BDD2E464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2CE808-FFE3-4CBD-9B6C-2AC77175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CCF8B9-0A76-43EC-8C5A-7F1E69EE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A98C6F-9ED0-4975-9C17-F3A718D8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712EF7-8DDA-4191-9FA7-678B383F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07FF-A52D-4465-8279-63F1A67C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40BF31-F3DB-471D-9433-0C7B7E7C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DD2D15-D2C9-4102-93FE-A2EAE03D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C11126-360A-450B-9A1F-C34E361C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B7E85D-8F57-42E5-8964-2F06EE52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5FC85F-028A-4CFC-8623-4E00209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389728-7081-49C7-922D-35FAF311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E632C-15BE-45B0-81ED-3AB2F248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4046A-068F-496D-9020-299D08D5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25004B-14D7-441C-980F-4E3A30F4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DA45F-1381-4D41-9FA1-1AA5B32A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61D3-4F06-40A5-9536-FC6BDEE1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4585A-A5B4-43AC-92D7-FA1810E2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DA2267-EB70-4F74-8A07-BA23AF14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AE6A9-DCCF-4B58-B859-A6F1ECB4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C9502D-7712-475C-B14C-179FB41E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2A9EC3-4F00-47E9-8167-A68C5EA5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667D34-EA41-4B6F-9CC6-F3F3840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2CB0DB-F4A1-45E8-A9E5-BF2E1301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D1C9E-523C-493C-A090-E9420371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8009C-972C-4C8F-89D2-2D0287F9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A8EEC-07D0-4308-9037-3B2B1B48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20AC-74E4-493E-91E0-44D720AC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8AACED-FD7F-4AD9-8C47-BA8C7BEE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D319D9-2947-4443-B69F-6651795D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96EFF7-4ED8-44D8-BF99-189B031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44AEE-CEC8-4F41-8FD9-AD65AF7C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194A6-3DC4-4D75-8329-A73A527C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23B2B6-4BA3-4CC2-8AA6-7C59B396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F59A62-C3B4-4BFB-9F5A-FA530635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D32A8-57D4-4426-9138-188726EC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9A2F34-BB31-4B8E-ADD6-74D52C0E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787F5E-0420-4805-9CF2-897C6501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5420-BCA1-42CF-A6B2-C2A567D1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1CEC80-7DFF-42D7-AF73-D0B76698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CB50FC-C7FE-400B-A3DF-D3FCC560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F25D17-26A6-4385-A546-BABC8DF3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0DD5-96DA-41DC-AF41-29E6D17E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4502-5BF9-4010-AB8F-F06AC609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C5762-65DC-4DFA-B5D9-9B3A7270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D3261-6A80-4A4C-A238-0F6487DC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9D0F-3509-40D6-84F1-A6464E60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640C-C8A4-486D-8FF6-D6A3624B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44C3F-93D6-439E-AEDD-40D44CE6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F27B1-2E89-4F39-B8D1-7EC3E803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B48E8-572E-450A-8E99-7AE4E778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0B10C-4216-4242-92EB-DEDE6E0F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589F9-9169-4F1E-8648-6D0E27F1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511C0-E2A3-4B99-8CAF-53214840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BBCC-D69E-4628-871A-6BC86572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3BF4-7AA8-4E77-86E2-25C8CD4D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513E-7F59-4399-B782-AA755403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F8F-833B-4F35-B364-87F40879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8E94-D52D-4F6B-B83F-2B900A8E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E7DA5-E4BC-48A2-BDBB-0FB5D433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49EB-A30B-433E-8866-7001A717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0521-29C7-4B84-B1DC-D7B6A4C8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4337C-FB3B-4F9B-A160-70AB675F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442A3-0466-4855-8E90-BAFB4016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D701B-3818-430C-85F9-CF7EE0D8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6404-EAC6-4A3D-BFC0-2F58E8CA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D5A1-FBF7-42B5-B893-78B36BC8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6BB00-AD29-44DB-9F53-71B70720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C94-0128-4404-B6F9-8115C896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93D40-9DF3-4AFF-B3A1-BD7A66B4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3ECC3-7369-4A2F-A6D3-06A2A768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70DFD-B2F6-4074-B64F-339755A1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CA14A-3666-4161-B555-43E724B4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8682D-A0C2-4971-84BC-3C58F39B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09B2E-0597-444B-AB5E-CD7A1A6C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9B3BE-8D01-4797-ADBB-616DA347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10E5-3910-4AEF-B38D-5DBC1E79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A2565-15DF-49AA-8FFB-3CA6847B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5A2F0-8253-4948-AA88-732A8C22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1CD-008D-4C79-B2EB-4FC59DF3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0F04E-3746-4864-A1B4-A0CB99CD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FAD28-0C78-4218-9C53-9AEB8253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13245-1C96-4329-8253-4BE83C05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D804-2698-44CD-83FE-00451559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FDDBF-CE49-4B14-A950-AA128A9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3CBF2-B479-4EDF-8459-569BAE63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8107A-A1F6-49C3-994F-96B66B36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438B8-2CB7-47A7-8084-25E86B54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42935-306A-4916-A5F4-81FDF80D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7BA80-BA85-4941-BEDB-0D11ADE6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579-B5CE-43B8-B142-225490F3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FAC6A-D8F7-4C0A-8EF1-B51CE9E7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52AE3-4070-4A69-A3F1-F8B90CF6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C079A-40CE-406D-BE2A-08E83B0C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5A264-B65C-449D-977D-94064C07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2EF07-007F-43F8-95C7-D865FA54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5997C-F225-4732-9460-1D9A2058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18130-421F-4F69-A6C2-A5F1D642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D421-A659-4829-B279-214E52A9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D9A3E-05AB-4303-9E10-49A611E8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18AE1-443D-4981-8EED-C11A517C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4DC-9EEF-43AF-9077-A07056C4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B15BB-02EA-4069-A436-C703B765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07186-FB20-415C-A010-1053242F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90E28-AEDF-4862-B2BC-F9B6B1FF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175F9-B40E-487F-A81A-8AD52F8C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9BBF0-BE22-4423-8770-D8A9D2BE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538E1-CE16-47A4-9610-D14BE936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A3C84-5334-41E9-B173-FDB80339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81103-C493-4280-B06F-AFE5EC51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F0277-9DA1-4ABA-B6BA-F47C92AC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23BB6-E881-4BC8-BE48-89ADE346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261-8BCD-4C91-98F5-FA8E3E06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13D1B-59A7-45DD-9D7D-9B218209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650D2-9061-433A-90F5-4B849052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A1F0C-BE4F-4178-B455-F0DF808E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6661F-4C35-477A-92E0-04942424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44CFE-09ED-4DF1-A193-ABF184A4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00364-BDC3-4E8E-B06E-854F27CE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AA4C4-697E-4C4F-8D66-8BC62C8D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A6485-DBFC-4F27-A1BE-EF733037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86EDD-9116-4044-9F64-880B57F4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C8A07-A4C0-4A9A-981B-1BCFA571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BDCE-6B3F-4FF7-A79B-76B34172EA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01A3-66E9-466E-A017-FFB5AD9019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AF42-05F8-4BB0-84F9-7870C6CF9D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B714-752A-4BF4-A5DF-87FAC92167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AB13-01F8-4D44-803B-8170D365F5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3CCB-0D14-4BB1-A686-3F904E8A36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261C-E06D-490F-9BA1-3276DB0C5E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6064-BCFE-4881-8523-600C59BD44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188D-6F47-4437-84D0-23C01CAE27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9C30-D6EA-4B38-A2E7-8D9DCFA502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715D-E3F3-4587-B5F6-75D00046F1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AD57-E0B3-47C3-8FB1-9BC616E99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8838-F65A-431D-AD6D-D9467E8042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DF30-8887-4670-AD59-559B9E3C6C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1A4F-B037-4635-A618-F67A1AB743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88B2-0023-4260-A6E1-3A5D5870C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590C-C96E-42F6-A6DC-4E1EF4D3D5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D602-9032-4173-BD56-3BA41B7D2E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5545-6AB1-4671-A413-FEE6835134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D679-25A9-4F5F-98CC-C66040852E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FB21-9019-4FA0-A055-497F6380DE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A4C8-5725-4CFB-A5D2-B4651EC0CF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B38C-6AD6-402C-9CC3-017752D8B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587D-E5B2-4DEB-9679-D9D7E334D8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059A-F96B-4248-97F3-A05133AE4D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8E92-B35F-40D0-9F04-7100762055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0CDB-3954-4FB0-A1AD-E17A13740E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C3AA-6B0C-41F4-A149-22DA93E423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F2DA-E7EF-40C4-B717-54992C6447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437E-C435-4A6C-9E55-B8F8421315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C63C-927B-49BF-B912-90A63CFAD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0876-6943-4969-978F-622BADD176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124F-B653-4BE8-982D-0FE7EF1003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4CBF-8979-4BEA-A0D9-531367D530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A329-16F6-4538-875E-AB85057E06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D37B-B531-474E-9B08-8FA2F8DE01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D4A0-CAD0-430B-8BEA-6640A7503B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F37F-64AB-4031-840A-5949B65CBE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9FDD-0BF2-4F8D-A848-9BE59A205E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BBCE-0898-4E16-906C-C707A93167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6000" y="3024360"/>
            <a:ext cx="457200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57200" y="162000"/>
            <a:ext cx="8229600" cy="6534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627280" y="305424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313160" y="30686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435640" y="30686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516720" y="30114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596360" y="30686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627280" y="599292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356000" y="596412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435640" y="6021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443640" y="595008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596360" y="596412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1000080" y="1119240"/>
            <a:ext cx="7143840" cy="4619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050920" y="311148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3851280" y="3141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4932360" y="3141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5940360" y="3141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6948360" y="31273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5580000" y="430704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5580000" y="473868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5580000" y="5172120"/>
            <a:ext cx="10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795240" y="866880"/>
            <a:ext cx="7553520" cy="5657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2325600" y="2852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4067280" y="2852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5148360" y="2852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156360" y="2852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7149960" y="28670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2354400" y="579132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4095720" y="57913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5176800" y="57913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6184800" y="579132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7178760" y="580536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7352" descr=""/>
          <p:cNvPicPr/>
          <p:nvPr/>
        </p:nvPicPr>
        <p:blipFill>
          <a:blip r:embed="rId1"/>
          <a:stretch/>
        </p:blipFill>
        <p:spPr>
          <a:xfrm>
            <a:off x="1023840" y="1033560"/>
            <a:ext cx="7096320" cy="47908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2124000" y="3068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4932360" y="3068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5940360" y="3068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6962760" y="30686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5853240" y="41925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5867280" y="4667400"/>
            <a:ext cx="93528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5911920" y="508464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6324" descr=""/>
          <p:cNvPicPr/>
          <p:nvPr/>
        </p:nvPicPr>
        <p:blipFill>
          <a:blip r:embed="rId1"/>
          <a:stretch/>
        </p:blipFill>
        <p:spPr>
          <a:xfrm>
            <a:off x="281160" y="1343160"/>
            <a:ext cx="8581680" cy="41716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2901960" y="292428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7020000" y="293832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3059280" y="360216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7020000" y="360216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2843280" y="429264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6948360" y="429264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3059280" y="497052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7020000" y="4970520"/>
            <a:ext cx="1150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5300" descr=""/>
          <p:cNvPicPr/>
          <p:nvPr/>
        </p:nvPicPr>
        <p:blipFill>
          <a:blip r:embed="rId1"/>
          <a:stretch/>
        </p:blipFill>
        <p:spPr>
          <a:xfrm>
            <a:off x="304920" y="657360"/>
            <a:ext cx="8534160" cy="55432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60872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684360" y="3659040"/>
            <a:ext cx="828036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539640" y="4365720"/>
            <a:ext cx="8280360" cy="4474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611280" y="5013360"/>
            <a:ext cx="828036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539640" y="5705640"/>
            <a:ext cx="828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4276" descr=""/>
          <p:cNvPicPr/>
          <p:nvPr/>
        </p:nvPicPr>
        <p:blipFill>
          <a:blip r:embed="rId1"/>
          <a:stretch/>
        </p:blipFill>
        <p:spPr>
          <a:xfrm>
            <a:off x="285840" y="281160"/>
            <a:ext cx="8572320" cy="62956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755640" y="396252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539640" y="471024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539640" y="541656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684360" y="6107040"/>
            <a:ext cx="54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图片 52231" descr=""/>
          <p:cNvPicPr/>
          <p:nvPr/>
        </p:nvPicPr>
        <p:blipFill>
          <a:blip r:embed="rId1"/>
          <a:stretch/>
        </p:blipFill>
        <p:spPr>
          <a:xfrm>
            <a:off x="271440" y="1004760"/>
            <a:ext cx="8601120" cy="48484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2"/>
          <a:stretch/>
        </p:blipFill>
        <p:spPr>
          <a:xfrm>
            <a:off x="2484360" y="25938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3"/>
          <a:stretch/>
        </p:blipFill>
        <p:spPr>
          <a:xfrm>
            <a:off x="4643280" y="259380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4"/>
          <a:stretch/>
        </p:blipFill>
        <p:spPr>
          <a:xfrm>
            <a:off x="2411280" y="328464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5"/>
          <a:stretch/>
        </p:blipFill>
        <p:spPr>
          <a:xfrm>
            <a:off x="4356000" y="32986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6"/>
          <a:stretch/>
        </p:blipFill>
        <p:spPr>
          <a:xfrm>
            <a:off x="2484360" y="39625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7"/>
          <a:stretch/>
        </p:blipFill>
        <p:spPr>
          <a:xfrm>
            <a:off x="4643280" y="400536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8"/>
          <a:stretch/>
        </p:blipFill>
        <p:spPr>
          <a:xfrm>
            <a:off x="2627280" y="4653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9"/>
          <a:stretch/>
        </p:blipFill>
        <p:spPr>
          <a:xfrm>
            <a:off x="4643280" y="46530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10"/>
          <a:stretch/>
        </p:blipFill>
        <p:spPr>
          <a:xfrm>
            <a:off x="900000" y="5373720"/>
            <a:ext cx="424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11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